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85959"/>
        <c:axId val="86973817"/>
      </c:barChart>
      <c:catAx>
        <c:axId val="36185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73817"/>
        <c:crosses val="autoZero"/>
        <c:auto val="1"/>
        <c:lblAlgn val="ctr"/>
        <c:lblOffset val="100"/>
        <c:noMultiLvlLbl val="0"/>
      </c:catAx>
      <c:valAx>
        <c:axId val="86973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85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AF5-01DC-43D5-A918-68D6F4D0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104-5064-42FF-A3EC-44826B2D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44C-57B0-423D-B649-6C1A02D2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F02-2636-4579-8667-5148D767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DDC-C6F2-418D-B5E8-7BB18CBF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997-0F99-4605-9455-DE9345CE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40C-A6C3-4743-A2FB-57437FB2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C52-9F14-4A79-AA9B-C904DB10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2FF-D7BD-43FA-B0E0-25729648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1A8-D9C1-46B6-B656-E434F33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954-9F46-491F-8D8B-FA511E0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38F-CC13-4BEA-A12A-8F37466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6FF58-994F-4F26-BDE3-E672758F7C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