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01328"/>
        <c:axId val="99529427"/>
      </c:barChart>
      <c:catAx>
        <c:axId val="89501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29427"/>
        <c:crosses val="autoZero"/>
        <c:auto val="1"/>
        <c:lblAlgn val="ctr"/>
        <c:lblOffset val="100"/>
        <c:noMultiLvlLbl val="0"/>
      </c:catAx>
      <c:valAx>
        <c:axId val="99529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1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F29-7E86-4A3B-A093-9C0E7132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6E2-376B-4E39-8FBD-C1DE76A6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8F3-8469-4439-8677-77DFD893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0B0-950B-4FBD-8DD4-C095BBFC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C98-71CC-4A49-9832-12447C84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8CC-07A9-4AC1-BE22-8D0169D8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F05-4C57-492C-83A1-C68ADB8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E32-7168-470C-BEBA-BDA59F2B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D17-CE34-4765-8DAB-4117D8D3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6A8-FD46-4D22-BCCF-9EDB35D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159-2DEF-48FB-AA09-14E6A34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C46-5054-4D0E-A442-4877689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EE7DE-1274-456E-9378-FCC9E3CD9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